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30.png" ContentType="image/png"/>
  <Override PartName="/ppt/media/image28.png" ContentType="image/png"/>
  <Override PartName="/ppt/media/image29.jpeg" ContentType="image/jpeg"/>
  <Override PartName="/ppt/media/image42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d3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2" descr="fsdhn ifez iez 6754 fgd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762444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ge </a:t>
            </a:r>
            <a:fld id="{7CA0B84C-7AE5-454B-BEEA-81B41757A68B}" type="slidenum">
              <a:rPr b="1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7" descr="nfv gfoj rze765 fjs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Text Box 6"/>
          <p:cNvSpPr/>
          <p:nvPr/>
        </p:nvSpPr>
        <p:spPr>
          <a:xfrm>
            <a:off x="0" y="2500200"/>
            <a:ext cx="9144000" cy="1761840"/>
          </a:xfrm>
          <a:prstGeom prst="rect">
            <a:avLst/>
          </a:prstGeom>
          <a:solidFill>
            <a:srgbClr val="996600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УРОК ОКРУЖАЮЩЕГО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«КАКИЕ БЫВАЮТ РАСТЕНИЯ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УМК «Школа Росс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" name="TextBox 3"/>
          <p:cNvGrpSpPr/>
          <p:nvPr/>
        </p:nvGrpSpPr>
        <p:grpSpPr>
          <a:xfrm>
            <a:off x="6797520" y="4211640"/>
            <a:ext cx="2401920" cy="609480"/>
            <a:chOff x="6797520" y="4211640"/>
            <a:chExt cx="2401920" cy="609480"/>
          </a:xfrm>
        </p:grpSpPr>
        <p:pic>
          <p:nvPicPr>
            <p:cNvPr id="41" name="TextBox 3" descr=""/>
            <p:cNvPicPr/>
            <p:nvPr/>
          </p:nvPicPr>
          <p:blipFill>
            <a:blip r:embed="rId2"/>
            <a:stretch/>
          </p:blipFill>
          <p:spPr>
            <a:xfrm>
              <a:off x="6797520" y="4211640"/>
              <a:ext cx="24019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" name=""/>
            <p:cNvSpPr/>
            <p:nvPr/>
          </p:nvSpPr>
          <p:spPr>
            <a:xfrm>
              <a:off x="6858000" y="428616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2 КЛАС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" name="Звуки природы - Звуки леса  (audiopoisk.com).mp3" descr=""/>
          <p:cNvPicPr/>
          <p:nvPr/>
        </p:nvPicPr>
        <p:blipFill>
          <a:blip r:embed="rId3"/>
          <a:stretch/>
        </p:blipFill>
        <p:spPr>
          <a:xfrm>
            <a:off x="8839080" y="621504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44" name="Прямоугольник 6"/>
          <p:cNvGrpSpPr/>
          <p:nvPr/>
        </p:nvGrpSpPr>
        <p:grpSpPr>
          <a:xfrm>
            <a:off x="4011480" y="5346720"/>
            <a:ext cx="5187960" cy="474480"/>
            <a:chOff x="4011480" y="5346720"/>
            <a:chExt cx="5187960" cy="474480"/>
          </a:xfrm>
        </p:grpSpPr>
        <p:pic>
          <p:nvPicPr>
            <p:cNvPr id="45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4011480" y="5346720"/>
              <a:ext cx="518796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071960" y="5380200"/>
              <a:ext cx="50720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Овал 1"/>
          <p:cNvSpPr/>
          <p:nvPr/>
        </p:nvSpPr>
        <p:spPr>
          <a:xfrm>
            <a:off x="80722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TextBox 2"/>
          <p:cNvGrpSpPr/>
          <p:nvPr/>
        </p:nvGrpSpPr>
        <p:grpSpPr>
          <a:xfrm>
            <a:off x="-60480" y="762120"/>
            <a:ext cx="6832800" cy="1073160"/>
            <a:chOff x="-60480" y="762120"/>
            <a:chExt cx="6832800" cy="1073160"/>
          </a:xfrm>
        </p:grpSpPr>
        <p:pic>
          <p:nvPicPr>
            <p:cNvPr id="142" name="TextBox 2" descr=""/>
            <p:cNvPicPr/>
            <p:nvPr/>
          </p:nvPicPr>
          <p:blipFill>
            <a:blip r:embed="rId1"/>
            <a:stretch/>
          </p:blipFill>
          <p:spPr>
            <a:xfrm>
              <a:off x="-60480" y="762120"/>
              <a:ext cx="683280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0" y="928800"/>
              <a:ext cx="6715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Групповая работа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Box 3"/>
          <p:cNvSpPr/>
          <p:nvPr/>
        </p:nvSpPr>
        <p:spPr>
          <a:xfrm>
            <a:off x="500040" y="3000240"/>
            <a:ext cx="5929200" cy="642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ЗВАНИЕ ГРУППЫ РАСТ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500040" y="3929040"/>
            <a:ext cx="5929200" cy="6426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ЕМАТИЧЕСКИЙ РИСУ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500040" y="4857840"/>
            <a:ext cx="5929200" cy="6426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ОБЕННОСТИ ДАННОГО ВИ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а какие группы делятс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500040" y="5715000"/>
            <a:ext cx="5929200" cy="6426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ЗВАНИЕ  РАСТЕНИЙ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ДСТАВИТЕЛЕЙ ДАННОЙ ГРУП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TextBox 7"/>
          <p:cNvGrpSpPr/>
          <p:nvPr/>
        </p:nvGrpSpPr>
        <p:grpSpPr>
          <a:xfrm>
            <a:off x="1365120" y="1841400"/>
            <a:ext cx="3835440" cy="998640"/>
            <a:chOff x="1365120" y="1841400"/>
            <a:chExt cx="3835440" cy="998640"/>
          </a:xfrm>
        </p:grpSpPr>
        <p:pic>
          <p:nvPicPr>
            <p:cNvPr id="149" name="TextBox 7" descr=""/>
            <p:cNvPicPr/>
            <p:nvPr/>
          </p:nvPicPr>
          <p:blipFill>
            <a:blip r:embed="rId2"/>
            <a:stretch/>
          </p:blipFill>
          <p:spPr>
            <a:xfrm>
              <a:off x="1365120" y="1841400"/>
              <a:ext cx="383544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1428840" y="2000160"/>
              <a:ext cx="3714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ПЛАН :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Группа 14"/>
          <p:cNvGrpSpPr/>
          <p:nvPr/>
        </p:nvGrpSpPr>
        <p:grpSpPr>
          <a:xfrm>
            <a:off x="6572160" y="2928960"/>
            <a:ext cx="2428920" cy="3500280"/>
            <a:chOff x="6572160" y="2928960"/>
            <a:chExt cx="2428920" cy="3500280"/>
          </a:xfrm>
        </p:grpSpPr>
        <p:grpSp>
          <p:nvGrpSpPr>
            <p:cNvPr id="152" name="Загнутый угол 8"/>
            <p:cNvGrpSpPr/>
            <p:nvPr/>
          </p:nvGrpSpPr>
          <p:grpSpPr>
            <a:xfrm>
              <a:off x="6572160" y="2928960"/>
              <a:ext cx="2428920" cy="3500280"/>
              <a:chOff x="6572160" y="2928960"/>
              <a:chExt cx="2428920" cy="3500280"/>
            </a:xfrm>
          </p:grpSpPr>
          <p:pic>
            <p:nvPicPr>
              <p:cNvPr id="153" name="Загнутый угол 8" descr=""/>
              <p:cNvPicPr/>
              <p:nvPr/>
            </p:nvPicPr>
            <p:blipFill>
              <a:blip r:embed="rId3"/>
              <a:stretch/>
            </p:blipFill>
            <p:spPr>
              <a:xfrm>
                <a:off x="6572160" y="2928960"/>
                <a:ext cx="2428920" cy="350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"/>
              <p:cNvSpPr/>
              <p:nvPr/>
            </p:nvSpPr>
            <p:spPr>
              <a:xfrm>
                <a:off x="6630840" y="2967120"/>
                <a:ext cx="2315520" cy="257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5" name="Picture 1" descr=""/>
            <p:cNvPicPr/>
            <p:nvPr/>
          </p:nvPicPr>
          <p:blipFill>
            <a:blip r:embed="rId4"/>
            <a:stretch/>
          </p:blipFill>
          <p:spPr>
            <a:xfrm>
              <a:off x="7107480" y="3798360"/>
              <a:ext cx="1157760" cy="101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Box 10"/>
            <p:cNvSpPr/>
            <p:nvPr/>
          </p:nvSpPr>
          <p:spPr>
            <a:xfrm>
              <a:off x="6766920" y="3159000"/>
              <a:ext cx="1974960" cy="3682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900" spc="-1" strike="noStrike">
                  <a:solidFill>
                    <a:srgbClr val="ffffff"/>
                  </a:solidFill>
                  <a:latin typeface="Arial"/>
                </a:rPr>
                <a:t>НАЗВАНИЕ ГРУППЫ РАСТЕНИ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Box 11"/>
            <p:cNvSpPr/>
            <p:nvPr/>
          </p:nvSpPr>
          <p:spPr>
            <a:xfrm>
              <a:off x="6766920" y="4949640"/>
              <a:ext cx="1974960" cy="33732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ru-RU" sz="800" spc="-1" strike="noStrike">
                  <a:solidFill>
                    <a:srgbClr val="ffffff"/>
                  </a:solidFill>
                  <a:latin typeface="Arial"/>
                </a:rPr>
                <a:t>ОСОБЕННОСТИ ДАННОГО ВИДА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1" i="1" lang="ru-RU" sz="800" spc="-1" strike="noStrike">
                  <a:solidFill>
                    <a:srgbClr val="ffffff"/>
                  </a:solidFill>
                  <a:latin typeface="Arial"/>
                </a:rPr>
                <a:t>на какие группы делятся</a:t>
              </a:r>
              <a:r>
                <a:rPr b="1" lang="ru-RU" sz="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12"/>
            <p:cNvSpPr/>
            <p:nvPr/>
          </p:nvSpPr>
          <p:spPr>
            <a:xfrm>
              <a:off x="6766920" y="3478680"/>
              <a:ext cx="1974960" cy="2156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ffffff"/>
                  </a:solidFill>
                  <a:latin typeface="Arial"/>
                </a:rPr>
                <a:t>СХЕМАТИЧЕСКИЙ РИСУНОК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13"/>
            <p:cNvSpPr/>
            <p:nvPr/>
          </p:nvSpPr>
          <p:spPr>
            <a:xfrm>
              <a:off x="6698880" y="5397480"/>
              <a:ext cx="2034000" cy="30708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700" spc="-1" strike="noStrike">
                  <a:solidFill>
                    <a:srgbClr val="ffffff"/>
                  </a:solidFill>
                  <a:latin typeface="Arial"/>
                </a:rPr>
                <a:t>НАЗВАНИЕ  РАСТЕНИЙ -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700" spc="-1" strike="noStrike">
                  <a:solidFill>
                    <a:srgbClr val="ffffff"/>
                  </a:solidFill>
                  <a:latin typeface="Arial"/>
                </a:rPr>
                <a:t>ПРЕДСТАВИТЕЛЕЙ ДАННОЙ ГРУППЫ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4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Text Box 4"/>
          <p:cNvGrpSpPr/>
          <p:nvPr/>
        </p:nvGrpSpPr>
        <p:grpSpPr>
          <a:xfrm>
            <a:off x="2152800" y="1030320"/>
            <a:ext cx="4046400" cy="768240"/>
            <a:chOff x="2152800" y="1030320"/>
            <a:chExt cx="4046400" cy="768240"/>
          </a:xfrm>
        </p:grpSpPr>
        <p:pic>
          <p:nvPicPr>
            <p:cNvPr id="161" name="Text Box 4" descr=""/>
            <p:cNvPicPr/>
            <p:nvPr/>
          </p:nvPicPr>
          <p:blipFill>
            <a:blip r:embed="rId1"/>
            <a:stretch/>
          </p:blipFill>
          <p:spPr>
            <a:xfrm>
              <a:off x="2152800" y="1030320"/>
              <a:ext cx="40464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2214720" y="1143000"/>
              <a:ext cx="3929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РАСТЕН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Text Box 5"/>
          <p:cNvSpPr/>
          <p:nvPr/>
        </p:nvSpPr>
        <p:spPr>
          <a:xfrm>
            <a:off x="6073920" y="2602080"/>
            <a:ext cx="2641320" cy="520560"/>
          </a:xfrm>
          <a:prstGeom prst="rect">
            <a:avLst/>
          </a:prstGeom>
          <a:solidFill>
            <a:srgbClr val="cc00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СТАР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785880" y="2602080"/>
            <a:ext cx="2146320" cy="520560"/>
          </a:xfrm>
          <a:prstGeom prst="rect">
            <a:avLst/>
          </a:prstGeom>
          <a:solidFill>
            <a:srgbClr val="cc00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РЕВ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3571920" y="2602080"/>
            <a:ext cx="1657440" cy="520560"/>
          </a:xfrm>
          <a:prstGeom prst="rect">
            <a:avLst/>
          </a:prstGeom>
          <a:solidFill>
            <a:srgbClr val="cc00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А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2550960" y="4643280"/>
            <a:ext cx="1878120" cy="459720"/>
          </a:xfrm>
          <a:prstGeom prst="rect">
            <a:avLst/>
          </a:prstGeom>
          <a:solidFill>
            <a:srgbClr val="002060"/>
          </a:solidFill>
          <a:ln w="381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ВО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0" y="4643280"/>
            <a:ext cx="2428920" cy="459720"/>
          </a:xfrm>
          <a:prstGeom prst="rect">
            <a:avLst/>
          </a:prstGeom>
          <a:solidFill>
            <a:srgbClr val="002060"/>
          </a:solidFill>
          <a:ln w="381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СТ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4714920" y="4643280"/>
            <a:ext cx="2521080" cy="459720"/>
          </a:xfrm>
          <a:prstGeom prst="rect">
            <a:avLst/>
          </a:prstGeom>
          <a:solidFill>
            <a:srgbClr val="002060"/>
          </a:solidFill>
          <a:ln w="381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СТ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7358040" y="4643280"/>
            <a:ext cx="1785960" cy="459720"/>
          </a:xfrm>
          <a:prstGeom prst="rect">
            <a:avLst/>
          </a:prstGeom>
          <a:solidFill>
            <a:srgbClr val="002060"/>
          </a:solidFill>
          <a:ln w="381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ВО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4"/>
          <p:cNvSpPr/>
          <p:nvPr/>
        </p:nvSpPr>
        <p:spPr>
          <a:xfrm>
            <a:off x="4508640" y="1790640"/>
            <a:ext cx="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5"/>
          <p:cNvSpPr/>
          <p:nvPr/>
        </p:nvSpPr>
        <p:spPr>
          <a:xfrm flipH="1">
            <a:off x="2060280" y="1790640"/>
            <a:ext cx="158436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6"/>
          <p:cNvSpPr/>
          <p:nvPr/>
        </p:nvSpPr>
        <p:spPr>
          <a:xfrm>
            <a:off x="5445000" y="1790640"/>
            <a:ext cx="165600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7"/>
          <p:cNvSpPr/>
          <p:nvPr/>
        </p:nvSpPr>
        <p:spPr>
          <a:xfrm flipH="1">
            <a:off x="1009800" y="3214800"/>
            <a:ext cx="1069920" cy="151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8"/>
          <p:cNvSpPr/>
          <p:nvPr/>
        </p:nvSpPr>
        <p:spPr>
          <a:xfrm>
            <a:off x="2031840" y="3214800"/>
            <a:ext cx="839880" cy="151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9"/>
          <p:cNvSpPr/>
          <p:nvPr/>
        </p:nvSpPr>
        <p:spPr>
          <a:xfrm flipH="1">
            <a:off x="5873400" y="3159000"/>
            <a:ext cx="1298520" cy="151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0"/>
          <p:cNvSpPr/>
          <p:nvPr/>
        </p:nvSpPr>
        <p:spPr>
          <a:xfrm>
            <a:off x="7115040" y="3159000"/>
            <a:ext cx="993960" cy="151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Rectangle 21"/>
          <p:cNvGrpSpPr/>
          <p:nvPr/>
        </p:nvGrpSpPr>
        <p:grpSpPr>
          <a:xfrm>
            <a:off x="433440" y="103320"/>
            <a:ext cx="8613720" cy="768240"/>
            <a:chOff x="433440" y="103320"/>
            <a:chExt cx="8613720" cy="768240"/>
          </a:xfrm>
        </p:grpSpPr>
        <p:pic>
          <p:nvPicPr>
            <p:cNvPr id="178" name="Rectangle 21" descr=""/>
            <p:cNvPicPr/>
            <p:nvPr/>
          </p:nvPicPr>
          <p:blipFill>
            <a:blip r:embed="rId2"/>
            <a:stretch/>
          </p:blipFill>
          <p:spPr>
            <a:xfrm>
              <a:off x="433440" y="103320"/>
              <a:ext cx="86137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639720" y="214200"/>
              <a:ext cx="828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Заполните  схему. Приведите примеры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8"/>
          <p:cNvSpPr/>
          <p:nvPr/>
        </p:nvSpPr>
        <p:spPr>
          <a:xfrm>
            <a:off x="3429000" y="3571920"/>
            <a:ext cx="1878120" cy="825480"/>
          </a:xfrm>
          <a:prstGeom prst="rect">
            <a:avLst/>
          </a:prstGeom>
          <a:solidFill>
            <a:srgbClr val="996600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звания тр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642960" y="5429160"/>
            <a:ext cx="2428920" cy="825480"/>
          </a:xfrm>
          <a:prstGeom prst="rect">
            <a:avLst/>
          </a:prstGeom>
          <a:solidFill>
            <a:srgbClr val="996600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звания дерев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6357960" y="5429160"/>
            <a:ext cx="2286000" cy="825480"/>
          </a:xfrm>
          <a:prstGeom prst="rect">
            <a:avLst/>
          </a:prstGeom>
          <a:solidFill>
            <a:srgbClr val="996600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звания кустар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Овал 21"/>
          <p:cNvSpPr/>
          <p:nvPr/>
        </p:nvSpPr>
        <p:spPr>
          <a:xfrm>
            <a:off x="80722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Овал 3"/>
          <p:cNvSpPr/>
          <p:nvPr/>
        </p:nvSpPr>
        <p:spPr>
          <a:xfrm>
            <a:off x="80722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142800" y="4285800"/>
            <a:ext cx="6257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бота по учебни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714840" y="5214600"/>
            <a:ext cx="4829040" cy="114300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тение с пометами: стр. 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Заголовок 1"/>
          <p:cNvSpPr/>
          <p:nvPr/>
        </p:nvSpPr>
        <p:spPr>
          <a:xfrm>
            <a:off x="0" y="1071720"/>
            <a:ext cx="8143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бота в тетради на печатной осно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Содержимое 2"/>
          <p:cNvSpPr/>
          <p:nvPr/>
        </p:nvSpPr>
        <p:spPr>
          <a:xfrm>
            <a:off x="285840" y="1785960"/>
            <a:ext cx="4829040" cy="114300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полнить задание    № 1 и 2 на стр. 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Овал 1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"/>
          <p:cNvSpPr/>
          <p:nvPr/>
        </p:nvSpPr>
        <p:spPr>
          <a:xfrm>
            <a:off x="0" y="0"/>
            <a:ext cx="3643200" cy="70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 Antiqua"/>
              </a:rPr>
              <a:t>СИНКВЕЙ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357120" y="1143000"/>
            <a:ext cx="17146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РАСТ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357280" y="1143000"/>
            <a:ext cx="17146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ДЕРЕВ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5"/>
          <p:cNvSpPr/>
          <p:nvPr/>
        </p:nvSpPr>
        <p:spPr>
          <a:xfrm>
            <a:off x="0" y="2000160"/>
            <a:ext cx="28576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ОДНОСТВО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7000920" y="2428920"/>
            <a:ext cx="19288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ДУШИСТ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7"/>
          <p:cNvSpPr/>
          <p:nvPr/>
        </p:nvSpPr>
        <p:spPr>
          <a:xfrm>
            <a:off x="6643800" y="1143000"/>
            <a:ext cx="17859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ТРА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8"/>
          <p:cNvSpPr/>
          <p:nvPr/>
        </p:nvSpPr>
        <p:spPr>
          <a:xfrm>
            <a:off x="4286160" y="1143000"/>
            <a:ext cx="22147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КУСТАР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Rectangle 1"/>
          <p:cNvGrpSpPr/>
          <p:nvPr/>
        </p:nvGrpSpPr>
        <p:grpSpPr>
          <a:xfrm>
            <a:off x="-66600" y="658800"/>
            <a:ext cx="8223120" cy="547560"/>
            <a:chOff x="-66600" y="658800"/>
            <a:chExt cx="8223120" cy="547560"/>
          </a:xfrm>
        </p:grpSpPr>
        <p:pic>
          <p:nvPicPr>
            <p:cNvPr id="198" name="Rectangle 1" descr=""/>
            <p:cNvPicPr/>
            <p:nvPr/>
          </p:nvPicPr>
          <p:blipFill>
            <a:blip r:embed="rId1"/>
            <a:stretch/>
          </p:blipFill>
          <p:spPr>
            <a:xfrm>
              <a:off x="-66600" y="658800"/>
              <a:ext cx="822312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33840" y="714960"/>
              <a:ext cx="802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Первая строка —одно слово предмет, о котором пойдет реч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Прямоугольник 10"/>
          <p:cNvGrpSpPr/>
          <p:nvPr/>
        </p:nvGrpSpPr>
        <p:grpSpPr>
          <a:xfrm>
            <a:off x="-60480" y="1584360"/>
            <a:ext cx="9259920" cy="530280"/>
            <a:chOff x="-60480" y="1584360"/>
            <a:chExt cx="9259920" cy="530280"/>
          </a:xfrm>
        </p:grpSpPr>
        <p:pic>
          <p:nvPicPr>
            <p:cNvPr id="201" name="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-60480" y="1584360"/>
              <a:ext cx="925992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0" y="1643040"/>
              <a:ext cx="91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Вторая строка — два слова </a:t>
              </a:r>
              <a:r>
                <a:rPr b="1" i="1" lang="ru-RU" sz="2000" spc="-1" strike="noStrike">
                  <a:solidFill>
                    <a:srgbClr val="ffffff"/>
                  </a:solidFill>
                  <a:latin typeface="Arial"/>
                </a:rPr>
                <a:t>описание свойств 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редме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Box 11"/>
          <p:cNvSpPr/>
          <p:nvPr/>
        </p:nvSpPr>
        <p:spPr>
          <a:xfrm>
            <a:off x="2857680" y="2000160"/>
            <a:ext cx="30715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МНОГОСТВО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2"/>
          <p:cNvSpPr/>
          <p:nvPr/>
        </p:nvSpPr>
        <p:spPr>
          <a:xfrm>
            <a:off x="1928880" y="2428920"/>
            <a:ext cx="15714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ВЫСО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3"/>
          <p:cNvSpPr/>
          <p:nvPr/>
        </p:nvSpPr>
        <p:spPr>
          <a:xfrm>
            <a:off x="7572240" y="2000160"/>
            <a:ext cx="13575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МЯГ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4"/>
          <p:cNvSpPr/>
          <p:nvPr/>
        </p:nvSpPr>
        <p:spPr>
          <a:xfrm>
            <a:off x="4929120" y="2428920"/>
            <a:ext cx="21430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ЛИСТВ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5"/>
          <p:cNvSpPr/>
          <p:nvPr/>
        </p:nvSpPr>
        <p:spPr>
          <a:xfrm>
            <a:off x="3429000" y="2428920"/>
            <a:ext cx="1571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ХВОЙ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6"/>
          <p:cNvSpPr/>
          <p:nvPr/>
        </p:nvSpPr>
        <p:spPr>
          <a:xfrm>
            <a:off x="0" y="3500280"/>
            <a:ext cx="17146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РАСТ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7"/>
          <p:cNvSpPr/>
          <p:nvPr/>
        </p:nvSpPr>
        <p:spPr>
          <a:xfrm>
            <a:off x="0" y="2428920"/>
            <a:ext cx="19288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ВЕТВИСТ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0"/>
          <p:cNvSpPr/>
          <p:nvPr/>
        </p:nvSpPr>
        <p:spPr>
          <a:xfrm>
            <a:off x="5929200" y="2000160"/>
            <a:ext cx="16430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СО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Прямоугольник 21"/>
          <p:cNvGrpSpPr/>
          <p:nvPr/>
        </p:nvGrpSpPr>
        <p:grpSpPr>
          <a:xfrm>
            <a:off x="-85680" y="3017880"/>
            <a:ext cx="8448480" cy="530280"/>
            <a:chOff x="-85680" y="3017880"/>
            <a:chExt cx="8448480" cy="530280"/>
          </a:xfrm>
        </p:grpSpPr>
        <p:pic>
          <p:nvPicPr>
            <p:cNvPr id="212" name="Прямоугольник 21" descr=""/>
            <p:cNvPicPr/>
            <p:nvPr/>
          </p:nvPicPr>
          <p:blipFill>
            <a:blip r:embed="rId3"/>
            <a:stretch/>
          </p:blipFill>
          <p:spPr>
            <a:xfrm>
              <a:off x="-85680" y="3017880"/>
              <a:ext cx="844848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0" y="3071880"/>
              <a:ext cx="828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Третья строка — тир слова  </a:t>
              </a:r>
              <a:r>
                <a:rPr b="1" i="1" lang="ru-RU" sz="2000" spc="-1" strike="noStrike">
                  <a:solidFill>
                    <a:srgbClr val="ffffff"/>
                  </a:solidFill>
                  <a:latin typeface="Arial"/>
                </a:rPr>
                <a:t>характерные действия предме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Box 22"/>
          <p:cNvSpPr/>
          <p:nvPr/>
        </p:nvSpPr>
        <p:spPr>
          <a:xfrm>
            <a:off x="1857240" y="3500280"/>
            <a:ext cx="17146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ЦВЕТ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3"/>
          <p:cNvSpPr/>
          <p:nvPr/>
        </p:nvSpPr>
        <p:spPr>
          <a:xfrm>
            <a:off x="1428840" y="3929040"/>
            <a:ext cx="23572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ЗАЩИЩ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4"/>
          <p:cNvSpPr/>
          <p:nvPr/>
        </p:nvSpPr>
        <p:spPr>
          <a:xfrm>
            <a:off x="5357880" y="3929040"/>
            <a:ext cx="22143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УКРАШ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25"/>
          <p:cNvSpPr/>
          <p:nvPr/>
        </p:nvSpPr>
        <p:spPr>
          <a:xfrm>
            <a:off x="7429680" y="3500280"/>
            <a:ext cx="17143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УВЯД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26"/>
          <p:cNvSpPr/>
          <p:nvPr/>
        </p:nvSpPr>
        <p:spPr>
          <a:xfrm>
            <a:off x="5572080" y="3500280"/>
            <a:ext cx="17146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КОРМЯ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27"/>
          <p:cNvSpPr/>
          <p:nvPr/>
        </p:nvSpPr>
        <p:spPr>
          <a:xfrm>
            <a:off x="3714840" y="3500280"/>
            <a:ext cx="17143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РАДУ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Прямоугольник 28"/>
          <p:cNvGrpSpPr/>
          <p:nvPr/>
        </p:nvGrpSpPr>
        <p:grpSpPr>
          <a:xfrm>
            <a:off x="-79200" y="4370400"/>
            <a:ext cx="9369360" cy="530280"/>
            <a:chOff x="-79200" y="4370400"/>
            <a:chExt cx="9369360" cy="530280"/>
          </a:xfrm>
        </p:grpSpPr>
        <p:pic>
          <p:nvPicPr>
            <p:cNvPr id="221" name="Прямоугольник 28" descr=""/>
            <p:cNvPicPr/>
            <p:nvPr/>
          </p:nvPicPr>
          <p:blipFill>
            <a:blip r:embed="rId4"/>
            <a:stretch/>
          </p:blipFill>
          <p:spPr>
            <a:xfrm>
              <a:off x="-79200" y="4370400"/>
              <a:ext cx="936936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0" y="4429080"/>
              <a:ext cx="91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Четвертая </a:t>
              </a: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строка-четыре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 слова,  личное отношение автора к предмету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TextBox 29"/>
          <p:cNvSpPr/>
          <p:nvPr/>
        </p:nvSpPr>
        <p:spPr>
          <a:xfrm>
            <a:off x="0" y="4857840"/>
            <a:ext cx="42148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МЫ БУДЕМ ВАС ОБЕРЕГ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0"/>
          <p:cNvSpPr/>
          <p:nvPr/>
        </p:nvSpPr>
        <p:spPr>
          <a:xfrm>
            <a:off x="4929120" y="4857840"/>
            <a:ext cx="42148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ЛЮБУЕМСЯ ИХ КРАСО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1"/>
          <p:cNvSpPr/>
          <p:nvPr/>
        </p:nvSpPr>
        <p:spPr>
          <a:xfrm>
            <a:off x="2500200" y="5214960"/>
            <a:ext cx="42148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ЛЮДЕЙ ВЫ РАДУЙТЕ ВСЕГ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Прямоугольник 32"/>
          <p:cNvGrpSpPr/>
          <p:nvPr/>
        </p:nvGrpSpPr>
        <p:grpSpPr>
          <a:xfrm>
            <a:off x="-60480" y="5730840"/>
            <a:ext cx="9259920" cy="530280"/>
            <a:chOff x="-60480" y="5730840"/>
            <a:chExt cx="9259920" cy="530280"/>
          </a:xfrm>
        </p:grpSpPr>
        <p:pic>
          <p:nvPicPr>
            <p:cNvPr id="227" name="Прямоугольник 32" descr=""/>
            <p:cNvPicPr/>
            <p:nvPr/>
          </p:nvPicPr>
          <p:blipFill>
            <a:blip r:embed="rId5"/>
            <a:stretch/>
          </p:blipFill>
          <p:spPr>
            <a:xfrm>
              <a:off x="-60480" y="5730840"/>
              <a:ext cx="925992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0" y="5786280"/>
              <a:ext cx="91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ятая строка — одно </a:t>
              </a:r>
              <a:r>
                <a:rPr b="1" i="1" lang="ru-RU" sz="2000" spc="-1" strike="noStrike">
                  <a:solidFill>
                    <a:srgbClr val="ffffff"/>
                  </a:solidFill>
                  <a:latin typeface="Arial"/>
                </a:rPr>
                <a:t>слово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, характеризующее </a:t>
              </a:r>
              <a:r>
                <a:rPr b="1" i="1" lang="ru-RU" sz="2000" spc="-1" strike="noStrike">
                  <a:solidFill>
                    <a:srgbClr val="ffffff"/>
                  </a:solidFill>
                  <a:latin typeface="Arial"/>
                </a:rPr>
                <a:t>суть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 предмет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TextBox 33"/>
          <p:cNvSpPr/>
          <p:nvPr/>
        </p:nvSpPr>
        <p:spPr>
          <a:xfrm>
            <a:off x="4714920" y="6215040"/>
            <a:ext cx="17143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КРАС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34"/>
          <p:cNvSpPr/>
          <p:nvPr/>
        </p:nvSpPr>
        <p:spPr>
          <a:xfrm>
            <a:off x="2357280" y="6215040"/>
            <a:ext cx="17146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ПРИ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35"/>
          <p:cNvSpPr/>
          <p:nvPr/>
        </p:nvSpPr>
        <p:spPr>
          <a:xfrm>
            <a:off x="0" y="6215040"/>
            <a:ext cx="17146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ЖИЗ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36"/>
          <p:cNvSpPr/>
          <p:nvPr/>
        </p:nvSpPr>
        <p:spPr>
          <a:xfrm>
            <a:off x="6715080" y="6215040"/>
            <a:ext cx="24289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РАЗНООБРАЗ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Заголовок 1"/>
          <p:cNvSpPr/>
          <p:nvPr/>
        </p:nvSpPr>
        <p:spPr>
          <a:xfrm>
            <a:off x="2143080" y="1785960"/>
            <a:ext cx="62578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бота по учебни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одержимое 2"/>
          <p:cNvSpPr/>
          <p:nvPr/>
        </p:nvSpPr>
        <p:spPr>
          <a:xfrm>
            <a:off x="500040" y="2786040"/>
            <a:ext cx="8215200" cy="3357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. 64– 67 –читать, отвечать на вопрос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готовка индивидуальных сообщений о необыкновенных растениях нашей плане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работка вопросов проверочного теста по изученной теме к следующему уро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Заголовок 1"/>
          <p:cNvSpPr/>
          <p:nvPr/>
        </p:nvSpPr>
        <p:spPr>
          <a:xfrm>
            <a:off x="500040" y="1071720"/>
            <a:ext cx="6257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Овал 5"/>
          <p:cNvSpPr/>
          <p:nvPr/>
        </p:nvSpPr>
        <p:spPr>
          <a:xfrm>
            <a:off x="80722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Овал 1"/>
          <p:cNvSpPr/>
          <p:nvPr/>
        </p:nvSpPr>
        <p:spPr>
          <a:xfrm>
            <a:off x="80722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Прямоугольник 2"/>
          <p:cNvGrpSpPr/>
          <p:nvPr/>
        </p:nvGrpSpPr>
        <p:grpSpPr>
          <a:xfrm>
            <a:off x="-23760" y="878040"/>
            <a:ext cx="8655120" cy="841320"/>
            <a:chOff x="-23760" y="878040"/>
            <a:chExt cx="8655120" cy="841320"/>
          </a:xfrm>
        </p:grpSpPr>
        <p:pic>
          <p:nvPicPr>
            <p:cNvPr id="239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-23760" y="878040"/>
              <a:ext cx="86551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214200" y="1000080"/>
              <a:ext cx="8359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Список используемых источнико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Прямоугольник 3"/>
          <p:cNvSpPr/>
          <p:nvPr/>
        </p:nvSpPr>
        <p:spPr>
          <a:xfrm>
            <a:off x="285840" y="2571840"/>
            <a:ext cx="8572320" cy="20142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art-orenburg.narod.ru/nature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tendzakaz.ru/list.php?table=k_om3&amp;page_title=%CE%EA%F0%F3%E6%E0%FE%F9%E8%E9+%EC%E8%F0.+3+%EA%EB%E0%F1%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ppt4web.ru/okruzhajushhijj-mir/okruzhajushhijj-mi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nnm.ru/blogs/BlackWolfik/wonderful-plants-wallpaper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100008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Девиз уро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Содержимое 3"/>
          <p:cNvGrpSpPr/>
          <p:nvPr/>
        </p:nvGrpSpPr>
        <p:grpSpPr>
          <a:xfrm>
            <a:off x="30240" y="3035160"/>
            <a:ext cx="9246960" cy="2354400"/>
            <a:chOff x="30240" y="3035160"/>
            <a:chExt cx="9246960" cy="2354400"/>
          </a:xfrm>
        </p:grpSpPr>
        <p:pic>
          <p:nvPicPr>
            <p:cNvPr id="49" name="Содержимое 3" descr=""/>
            <p:cNvPicPr/>
            <p:nvPr/>
          </p:nvPicPr>
          <p:blipFill>
            <a:blip r:embed="rId1"/>
            <a:stretch/>
          </p:blipFill>
          <p:spPr>
            <a:xfrm>
              <a:off x="30240" y="3035160"/>
              <a:ext cx="9246960" cy="23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285840" y="3071880"/>
              <a:ext cx="8572320" cy="22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2520" indent="-182520" algn="ctr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«</a:t>
              </a:r>
              <a:r>
                <a:rPr b="1" lang="ru-RU" sz="4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е говори, чему учился, а говори, что узнал».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Овал 4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56880" y="285480"/>
            <a:ext cx="48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Тест «ВОД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3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Прямоугольник 4"/>
          <p:cNvGrpSpPr/>
          <p:nvPr/>
        </p:nvGrpSpPr>
        <p:grpSpPr>
          <a:xfrm>
            <a:off x="-225360" y="1231920"/>
            <a:ext cx="9424800" cy="1401840"/>
            <a:chOff x="-225360" y="1231920"/>
            <a:chExt cx="9424800" cy="1401840"/>
          </a:xfrm>
        </p:grpSpPr>
        <p:pic>
          <p:nvPicPr>
            <p:cNvPr id="55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-225360" y="1231920"/>
              <a:ext cx="94248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357200"/>
              <a:ext cx="91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43040" indent="-743040">
                <a:buClr>
                  <a:srgbClr val="ffff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Сколько состояний воды бывает 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743040" indent="-743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природе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Скругленный прямоугольник 5"/>
          <p:cNvGrpSpPr/>
          <p:nvPr/>
        </p:nvGrpSpPr>
        <p:grpSpPr>
          <a:xfrm>
            <a:off x="390600" y="2889360"/>
            <a:ext cx="3736800" cy="1042920"/>
            <a:chOff x="390600" y="2889360"/>
            <a:chExt cx="3736800" cy="1042920"/>
          </a:xfrm>
        </p:grpSpPr>
        <p:pic>
          <p:nvPicPr>
            <p:cNvPr id="58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390600" y="2889360"/>
              <a:ext cx="373680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90480" y="3119400"/>
              <a:ext cx="326232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а) три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Скругленный прямоугольник 6"/>
          <p:cNvGrpSpPr/>
          <p:nvPr/>
        </p:nvGrpSpPr>
        <p:grpSpPr>
          <a:xfrm>
            <a:off x="317520" y="4243320"/>
            <a:ext cx="3736800" cy="1041480"/>
            <a:chOff x="317520" y="4243320"/>
            <a:chExt cx="3736800" cy="1041480"/>
          </a:xfrm>
        </p:grpSpPr>
        <p:pic>
          <p:nvPicPr>
            <p:cNvPr id="61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317520" y="4243320"/>
              <a:ext cx="373680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19200" y="4476600"/>
              <a:ext cx="326232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б) дв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3" descr=""/>
          <p:cNvPicPr/>
          <p:nvPr/>
        </p:nvPicPr>
        <p:blipFill>
          <a:blip r:embed="rId4"/>
          <a:stretch/>
        </p:blipFill>
        <p:spPr>
          <a:xfrm>
            <a:off x="4449600" y="3060720"/>
            <a:ext cx="4206960" cy="3200400"/>
          </a:xfrm>
          <a:prstGeom prst="rect">
            <a:avLst/>
          </a:prstGeom>
          <a:ln w="0">
            <a:noFill/>
          </a:ln>
        </p:spPr>
      </p:pic>
      <p:grpSp>
        <p:nvGrpSpPr>
          <p:cNvPr id="64" name="Скругленный прямоугольник 10"/>
          <p:cNvGrpSpPr/>
          <p:nvPr/>
        </p:nvGrpSpPr>
        <p:grpSpPr>
          <a:xfrm>
            <a:off x="390600" y="5529240"/>
            <a:ext cx="3736800" cy="1042920"/>
            <a:chOff x="390600" y="5529240"/>
            <a:chExt cx="3736800" cy="1042920"/>
          </a:xfrm>
        </p:grpSpPr>
        <p:pic>
          <p:nvPicPr>
            <p:cNvPr id="65" name="Скругленный прямоугольник 10" descr=""/>
            <p:cNvPicPr/>
            <p:nvPr/>
          </p:nvPicPr>
          <p:blipFill>
            <a:blip r:embed="rId5"/>
            <a:stretch/>
          </p:blipFill>
          <p:spPr>
            <a:xfrm>
              <a:off x="390600" y="5529240"/>
              <a:ext cx="373680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690480" y="5762520"/>
              <a:ext cx="326232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в) одно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Овал 3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4214880" y="3000240"/>
            <a:ext cx="4572000" cy="3429000"/>
          </a:xfrm>
          <a:prstGeom prst="rect">
            <a:avLst/>
          </a:prstGeom>
          <a:ln w="0">
            <a:noFill/>
          </a:ln>
        </p:spPr>
      </p:pic>
      <p:grpSp>
        <p:nvGrpSpPr>
          <p:cNvPr id="69" name="Прямоугольник 4"/>
          <p:cNvGrpSpPr/>
          <p:nvPr/>
        </p:nvGrpSpPr>
        <p:grpSpPr>
          <a:xfrm>
            <a:off x="-122400" y="165240"/>
            <a:ext cx="9321840" cy="1395360"/>
            <a:chOff x="-122400" y="165240"/>
            <a:chExt cx="9321840" cy="1395360"/>
          </a:xfrm>
        </p:grpSpPr>
        <p:pic>
          <p:nvPicPr>
            <p:cNvPr id="70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122400" y="165240"/>
              <a:ext cx="932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0" y="285840"/>
              <a:ext cx="91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43040" indent="-743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2.  Какое свойство воды названо неверно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Скругленный прямоугольник 7"/>
          <p:cNvGrpSpPr/>
          <p:nvPr/>
        </p:nvGrpSpPr>
        <p:grpSpPr>
          <a:xfrm>
            <a:off x="225360" y="1822320"/>
            <a:ext cx="4761000" cy="1397160"/>
            <a:chOff x="225360" y="1822320"/>
            <a:chExt cx="4761000" cy="1397160"/>
          </a:xfrm>
        </p:grpSpPr>
        <p:pic>
          <p:nvPicPr>
            <p:cNvPr id="73" name="Скругленный 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25360" y="1822320"/>
              <a:ext cx="476100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465120" y="2036880"/>
              <a:ext cx="428472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а) вода прозрачн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Скругленный прямоугольник 8"/>
          <p:cNvGrpSpPr/>
          <p:nvPr/>
        </p:nvGrpSpPr>
        <p:grpSpPr>
          <a:xfrm>
            <a:off x="152280" y="3322800"/>
            <a:ext cx="4900680" cy="1395360"/>
            <a:chOff x="152280" y="3322800"/>
            <a:chExt cx="4900680" cy="1395360"/>
          </a:xfrm>
        </p:grpSpPr>
        <p:pic>
          <p:nvPicPr>
            <p:cNvPr id="76" name="Скругленный 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152280" y="3322800"/>
              <a:ext cx="490068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393840" y="3537000"/>
              <a:ext cx="442728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б)  вода имеет белый цве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Скругленный прямоугольник 9"/>
          <p:cNvGrpSpPr/>
          <p:nvPr/>
        </p:nvGrpSpPr>
        <p:grpSpPr>
          <a:xfrm>
            <a:off x="152280" y="4821120"/>
            <a:ext cx="4761000" cy="1397160"/>
            <a:chOff x="152280" y="4821120"/>
            <a:chExt cx="4761000" cy="1397160"/>
          </a:xfrm>
        </p:grpSpPr>
        <p:pic>
          <p:nvPicPr>
            <p:cNvPr id="79" name="Скругленный прямоугольник 9" descr=""/>
            <p:cNvPicPr/>
            <p:nvPr/>
          </p:nvPicPr>
          <p:blipFill>
            <a:blip r:embed="rId5"/>
            <a:stretch/>
          </p:blipFill>
          <p:spPr>
            <a:xfrm>
              <a:off x="152280" y="4821120"/>
              <a:ext cx="476100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393840" y="5037120"/>
              <a:ext cx="428436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в) вода не имеет запах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1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Овал 3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rcRect l="11749" t="0" r="8736" b="8285"/>
          <a:stretch/>
        </p:blipFill>
        <p:spPr>
          <a:xfrm>
            <a:off x="4643280" y="3500280"/>
            <a:ext cx="3997440" cy="3016440"/>
          </a:xfrm>
          <a:prstGeom prst="rect">
            <a:avLst/>
          </a:prstGeom>
          <a:ln w="0">
            <a:noFill/>
          </a:ln>
        </p:spPr>
      </p:pic>
      <p:grpSp>
        <p:nvGrpSpPr>
          <p:cNvPr id="83" name="Прямоугольник 4"/>
          <p:cNvGrpSpPr/>
          <p:nvPr/>
        </p:nvGrpSpPr>
        <p:grpSpPr>
          <a:xfrm>
            <a:off x="-244440" y="590400"/>
            <a:ext cx="9443880" cy="1397160"/>
            <a:chOff x="-244440" y="590400"/>
            <a:chExt cx="9443880" cy="1397160"/>
          </a:xfrm>
        </p:grpSpPr>
        <p:pic>
          <p:nvPicPr>
            <p:cNvPr id="84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244440" y="590400"/>
              <a:ext cx="94438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0" y="714240"/>
              <a:ext cx="91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43040" indent="-743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. Какие объекты природы не могут существовать без воды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Скругленный прямоугольник 5"/>
          <p:cNvGrpSpPr/>
          <p:nvPr/>
        </p:nvGrpSpPr>
        <p:grpSpPr>
          <a:xfrm>
            <a:off x="298440" y="2109960"/>
            <a:ext cx="4114800" cy="961920"/>
            <a:chOff x="298440" y="2109960"/>
            <a:chExt cx="4114800" cy="961920"/>
          </a:xfrm>
        </p:grpSpPr>
        <p:pic>
          <p:nvPicPr>
            <p:cNvPr id="87" name="Скругленный 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298440" y="2109960"/>
              <a:ext cx="41148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476280" y="2262240"/>
              <a:ext cx="376236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а) солнц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Скругленный прямоугольник 6"/>
          <p:cNvGrpSpPr/>
          <p:nvPr/>
        </p:nvGrpSpPr>
        <p:grpSpPr>
          <a:xfrm>
            <a:off x="298440" y="3535200"/>
            <a:ext cx="4237200" cy="970200"/>
            <a:chOff x="298440" y="3535200"/>
            <a:chExt cx="4237200" cy="970200"/>
          </a:xfrm>
        </p:grpSpPr>
        <p:pic>
          <p:nvPicPr>
            <p:cNvPr id="90" name="Скругленный 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298440" y="3535200"/>
              <a:ext cx="423720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76280" y="3691080"/>
              <a:ext cx="388620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б) возду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Скругленный прямоугольник 7"/>
          <p:cNvGrpSpPr/>
          <p:nvPr/>
        </p:nvGrpSpPr>
        <p:grpSpPr>
          <a:xfrm>
            <a:off x="365040" y="4962600"/>
            <a:ext cx="4121280" cy="968400"/>
            <a:chOff x="365040" y="4962600"/>
            <a:chExt cx="4121280" cy="968400"/>
          </a:xfrm>
        </p:grpSpPr>
        <p:pic>
          <p:nvPicPr>
            <p:cNvPr id="93" name="Скругленный 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365040" y="4962600"/>
              <a:ext cx="412128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547560" y="5119560"/>
              <a:ext cx="376236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в) подсолну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10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Овал 3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4071960" y="3071880"/>
            <a:ext cx="4557600" cy="3429000"/>
          </a:xfrm>
          <a:prstGeom prst="rect">
            <a:avLst/>
          </a:prstGeom>
          <a:ln w="0">
            <a:noFill/>
          </a:ln>
        </p:spPr>
      </p:pic>
      <p:grpSp>
        <p:nvGrpSpPr>
          <p:cNvPr id="97" name="Прямоугольник 4"/>
          <p:cNvGrpSpPr/>
          <p:nvPr/>
        </p:nvGrpSpPr>
        <p:grpSpPr>
          <a:xfrm>
            <a:off x="-244440" y="590400"/>
            <a:ext cx="9443880" cy="841680"/>
            <a:chOff x="-244440" y="590400"/>
            <a:chExt cx="9443880" cy="841680"/>
          </a:xfrm>
        </p:grpSpPr>
        <p:pic>
          <p:nvPicPr>
            <p:cNvPr id="98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244440" y="590400"/>
              <a:ext cx="944388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0" y="714240"/>
              <a:ext cx="914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43040" indent="-743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. К какой группе относится вода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Скругленный прямоугольник 5"/>
          <p:cNvGrpSpPr/>
          <p:nvPr/>
        </p:nvGrpSpPr>
        <p:grpSpPr>
          <a:xfrm>
            <a:off x="298440" y="2109960"/>
            <a:ext cx="5688000" cy="961920"/>
            <a:chOff x="298440" y="2109960"/>
            <a:chExt cx="5688000" cy="961920"/>
          </a:xfrm>
        </p:grpSpPr>
        <p:pic>
          <p:nvPicPr>
            <p:cNvPr id="101" name="Скругленный 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298440" y="2109960"/>
              <a:ext cx="56880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76280" y="2262240"/>
              <a:ext cx="533412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а) неживая природ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Скругленный прямоугольник 6"/>
          <p:cNvGrpSpPr/>
          <p:nvPr/>
        </p:nvGrpSpPr>
        <p:grpSpPr>
          <a:xfrm>
            <a:off x="298440" y="3535200"/>
            <a:ext cx="5688000" cy="970200"/>
            <a:chOff x="298440" y="3535200"/>
            <a:chExt cx="5688000" cy="970200"/>
          </a:xfrm>
        </p:grpSpPr>
        <p:pic>
          <p:nvPicPr>
            <p:cNvPr id="104" name="Скругленный 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298440" y="3535200"/>
              <a:ext cx="568800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76280" y="3691080"/>
              <a:ext cx="533412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б) живая природ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Скругленный прямоугольник 7"/>
          <p:cNvGrpSpPr/>
          <p:nvPr/>
        </p:nvGrpSpPr>
        <p:grpSpPr>
          <a:xfrm>
            <a:off x="365040" y="4962600"/>
            <a:ext cx="5548320" cy="968400"/>
            <a:chOff x="365040" y="4962600"/>
            <a:chExt cx="5548320" cy="968400"/>
          </a:xfrm>
        </p:grpSpPr>
        <p:pic>
          <p:nvPicPr>
            <p:cNvPr id="107" name="Скругленный 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365040" y="4962600"/>
              <a:ext cx="554832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47560" y="5119560"/>
              <a:ext cx="519120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в) не природ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" dur="1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7"/>
          <p:cNvSpPr/>
          <p:nvPr/>
        </p:nvSpPr>
        <p:spPr>
          <a:xfrm>
            <a:off x="2500200" y="3429000"/>
            <a:ext cx="20718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ГРА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7215120" y="2143080"/>
            <a:ext cx="135756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Н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4714920" y="3429000"/>
            <a:ext cx="15001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142920" y="2143080"/>
            <a:ext cx="23191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АМ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929040" y="5786280"/>
            <a:ext cx="22147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ЯБЛО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2500200" y="4714920"/>
            <a:ext cx="11430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5357880" y="2143080"/>
            <a:ext cx="17143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С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14200" y="3429000"/>
            <a:ext cx="214308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ИР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2571840" y="2143080"/>
            <a:ext cx="26431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ОМА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6429240" y="3429000"/>
            <a:ext cx="271476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ТЮЛЬП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13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214200" y="4714920"/>
            <a:ext cx="214308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ЗВЕЗ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214200" y="5786280"/>
            <a:ext cx="121464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643040" y="5786280"/>
            <a:ext cx="214308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ОЛН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5500800" y="4714920"/>
            <a:ext cx="314316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ЕЗАБУ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6286680" y="5786280"/>
            <a:ext cx="214308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ЗД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3857760" y="4714920"/>
            <a:ext cx="15001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У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TextBox 20"/>
          <p:cNvGrpSpPr/>
          <p:nvPr/>
        </p:nvGrpSpPr>
        <p:grpSpPr>
          <a:xfrm>
            <a:off x="12600" y="590400"/>
            <a:ext cx="8313840" cy="1635120"/>
            <a:chOff x="12600" y="590400"/>
            <a:chExt cx="8313840" cy="1635120"/>
          </a:xfrm>
        </p:grpSpPr>
        <p:pic>
          <p:nvPicPr>
            <p:cNvPr id="127" name="TextBox 20" descr=""/>
            <p:cNvPicPr/>
            <p:nvPr/>
          </p:nvPicPr>
          <p:blipFill>
            <a:blip r:embed="rId1"/>
            <a:stretch/>
          </p:blipFill>
          <p:spPr>
            <a:xfrm>
              <a:off x="12600" y="590400"/>
              <a:ext cx="8313840" cy="16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214200" y="714240"/>
              <a:ext cx="7643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Book Antiqua"/>
                </a:rPr>
                <a:t>НАЗОВИТЕ ПРЕДМЕТЫ, КОТОРЫЕ ОТНОСЯТСЯ К ЖИВОЙ ПРИРОДЕ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3"/>
          <p:cNvSpPr/>
          <p:nvPr/>
        </p:nvSpPr>
        <p:spPr>
          <a:xfrm>
            <a:off x="0" y="855720"/>
            <a:ext cx="3786120" cy="59461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Краснеют на солнце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Сосен стволы,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Разносится всюду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Запах смолы;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А ландышей белых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Кисти висят;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Как тонок и нежен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Их аромат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По лесу иду я,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Песню пою,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И слышит орешник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Песню мою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Сквозь ветви густые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Солнце глядит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Берёзка в ответ мне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Листвою шумит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1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TextBox 2"/>
          <p:cNvGrpSpPr/>
          <p:nvPr/>
        </p:nvGrpSpPr>
        <p:grpSpPr>
          <a:xfrm>
            <a:off x="3151080" y="49320"/>
            <a:ext cx="6048360" cy="1066680"/>
            <a:chOff x="3151080" y="49320"/>
            <a:chExt cx="6048360" cy="1066680"/>
          </a:xfrm>
        </p:grpSpPr>
        <p:pic>
          <p:nvPicPr>
            <p:cNvPr id="132" name="TextBox 2" descr=""/>
            <p:cNvPicPr/>
            <p:nvPr/>
          </p:nvPicPr>
          <p:blipFill>
            <a:blip r:embed="rId1"/>
            <a:stretch/>
          </p:blipFill>
          <p:spPr>
            <a:xfrm>
              <a:off x="3151080" y="49320"/>
              <a:ext cx="6048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3214800" y="214200"/>
              <a:ext cx="5929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АСТЕНИЯ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Picture 6" descr="http://go4.imgsmail.ru/imgpreview?key=http%3A//mr-parkett.ru/upload/Image/2/10.png&amp;mb=imgdb_preview_1630"/>
          <p:cNvPicPr/>
          <p:nvPr/>
        </p:nvPicPr>
        <p:blipFill>
          <a:blip r:embed="rId2"/>
          <a:stretch/>
        </p:blipFill>
        <p:spPr>
          <a:xfrm>
            <a:off x="4929120" y="1857240"/>
            <a:ext cx="34290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Овал 1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1928880" y="1071720"/>
            <a:ext cx="44290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МА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TextBox 3"/>
          <p:cNvGrpSpPr/>
          <p:nvPr/>
        </p:nvGrpSpPr>
        <p:grpSpPr>
          <a:xfrm>
            <a:off x="512640" y="2712960"/>
            <a:ext cx="8186760" cy="2230560"/>
            <a:chOff x="512640" y="2712960"/>
            <a:chExt cx="8186760" cy="2230560"/>
          </a:xfrm>
        </p:grpSpPr>
        <p:pic>
          <p:nvPicPr>
            <p:cNvPr id="138" name="TextBox 3" descr=""/>
            <p:cNvPicPr/>
            <p:nvPr/>
          </p:nvPicPr>
          <p:blipFill>
            <a:blip r:embed="rId1"/>
            <a:stretch/>
          </p:blipFill>
          <p:spPr>
            <a:xfrm>
              <a:off x="512640" y="2712960"/>
              <a:ext cx="8186760" cy="22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71680" y="2928960"/>
              <a:ext cx="80722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Какие бывают растения?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/>
  <dc:language>en-US</dc:language>
  <cp:lastModifiedBy>XTreme.ws</cp:lastModifiedBy>
  <dcterms:modified xsi:type="dcterms:W3CDTF">2020-10-26T11:35:22Z</dcterms:modified>
  <cp:revision>182</cp:revision>
  <dc:subject/>
  <dc:title>Colorful Spring Flowers</dc:title>
</cp:coreProperties>
</file>